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0C4-891A-4248-9BF2-C79F268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11A-224E-4850-AAD9-32265D2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B56-97AB-4505-BFF7-A11A3865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E96-881F-429E-B9B3-B32C77BE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A3E-711A-4E20-B33B-CF1E230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BB9-4522-4B44-B0D8-D7A926B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9B9-6556-4567-95BC-7CC7DA1C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25B-EF3C-4533-8F8B-B74D29D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12C-F3EB-41D9-87A4-70942C42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EAE-2758-4A01-B2E0-79C1441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DA0-B137-4E1A-87FC-9EB190E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B57-4216-4B9C-965F-EF7A133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76F-307C-427B-8FE0-1A5F9FB2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28036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ulo ITEMS esta diseñado para realizar la mantencion de las tablas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Materias Pr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Insu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-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estos ITEMS mencionados, son utilizados finalmente en todo el ciclo operativo de la Empresa, tales como; Ventas, Compras, Produccion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9138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cceder al modulo Items, debe ir al menu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dores &gt; Catalogo &gt;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44Z</dcterms:created>
  <dc:creator>.</dc:creator>
  <dc:description/>
  <dc:language>en-US</dc:language>
  <cp:lastModifiedBy>.</cp:lastModifiedBy>
  <dcterms:modified xsi:type="dcterms:W3CDTF">2011-10-24T16:09:43Z</dcterms:modified>
  <cp:revision>2</cp:revision>
  <dc:subject/>
  <dc:title>Diapositiva 1</dc:title>
</cp:coreProperties>
</file>